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331-DB83-4D17-9EF0-74D78A00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F85B-7022-4EB3-9EA8-143C7E6B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367D-FCE9-4ADE-925C-03227011F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F86-80A0-4314-83A9-9DA434ED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350A-2258-4F2B-B122-A20D034C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E1EA-DE44-4584-9710-175C1F965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E0AE-054C-4AD1-B185-095A85B5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F689-2D81-405D-8EEA-9E6C9C47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E534-8519-4394-8CED-AFF1934E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3650-6D55-47A6-8627-052F45948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59E6-C59B-4242-9354-B422F46C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42FD-1749-435E-8635-462DF6E4F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4989-F976-49E0-9837-BFACCD19E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7455-AE99-45F8-8B73-CC50604C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70DF-CABA-41DC-98DB-C2F73F69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AC88D-FC33-46F5-9662-E4643C58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03BD-1CCC-428F-B736-DAF193A8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D8E-037F-4B2A-A320-43B5F795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7418-8825-4875-930F-7841097B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BB1B-9E50-4B91-A8C5-3D9DC1829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28480" y="274680"/>
            <a:ext cx="725796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AA43-AC97-4EB0-9836-F0D05AEC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45E-338B-4463-9DDF-80D6A88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0804-5185-49AD-BF52-DDD721B1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ED6-B846-4500-B168-E82F7ADC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B597-8B70-417D-80AD-51D2F6AADE7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f6228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EF81-3704-4880-AF75-48305E6904C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714320"/>
            <a:ext cx="4500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 rot="222000">
            <a:off x="2207520" y="3357000"/>
            <a:ext cx="4500360" cy="19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f6228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8480" y="274680"/>
            <a:ext cx="7257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4f6228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1268280" y="225360"/>
            <a:ext cx="7534440" cy="99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785600" y="1428840"/>
            <a:ext cx="690084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tineydgers.at.ua/sova3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endem.ru/uploads/posts/2010-09/1285569710_osennie-listya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burla.su/uploads/posts/2010-05/1274360367_poslednii_zvonok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d:\Мои документы\Мои рисунки\images сова.jpeg"/>
          <p:cNvPicPr/>
          <p:nvPr/>
        </p:nvPicPr>
        <p:blipFill>
          <a:blip r:embed="rId2"/>
          <a:stretch/>
        </p:blipFill>
        <p:spPr>
          <a:xfrm>
            <a:off x="642960" y="1285920"/>
            <a:ext cx="1000080" cy="961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d:\Мои документы\Мои рисунки\LOGO.GIF"/>
          <p:cNvPicPr/>
          <p:nvPr/>
        </p:nvPicPr>
        <p:blipFill>
          <a:blip r:embed="rId3"/>
          <a:stretch/>
        </p:blipFill>
        <p:spPr>
          <a:xfrm>
            <a:off x="571680" y="2357280"/>
            <a:ext cx="1143000" cy="744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"/>
          <p:cNvPicPr/>
          <p:nvPr/>
        </p:nvPicPr>
        <p:blipFill>
          <a:blip r:embed="rId4"/>
          <a:stretch/>
        </p:blipFill>
        <p:spPr>
          <a:xfrm>
            <a:off x="428760" y="3571920"/>
            <a:ext cx="1214280" cy="928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7" descr=""/>
          <p:cNvPicPr/>
          <p:nvPr/>
        </p:nvPicPr>
        <p:blipFill>
          <a:blip r:embed="rId5"/>
          <a:stretch/>
        </p:blipFill>
        <p:spPr>
          <a:xfrm>
            <a:off x="642960" y="5072040"/>
            <a:ext cx="928800" cy="9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16:53:57Z</dcterms:created>
  <dc:creator>Comp</dc:creator>
  <dc:description/>
  <dc:language>en-US</dc:language>
  <cp:lastModifiedBy>Comp</cp:lastModifiedBy>
  <dcterms:modified xsi:type="dcterms:W3CDTF">2011-07-29T17:01:45Z</dcterms:modified>
  <cp:revision>2</cp:revision>
  <dc:subject/>
  <dc:title>Слайд 1</dc:title>
</cp:coreProperties>
</file>