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C132-119D-4C1B-AA07-8D26320B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87DE-D840-4B55-B38D-A545CB6C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6C7-608D-4174-AF9D-E78B2B1BB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703B-2F16-4D3F-89E0-21ECC9D3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7F6C-191C-4041-A451-B53F4FCFF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5E9E-FB5A-492A-A91A-1D3BC180B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0289-FEC2-43DF-8B9B-15B95D37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9C5A-279C-46E7-AD3A-7BCDF0A7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3A43-7C84-4B5E-AED6-88E6FFA3D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E2699-DFB0-406D-BF92-138C554D7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40333-A3BA-474B-BD8B-35B57101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EBC3-0658-4CE8-A4BC-BC064F4F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4371F-B722-4C5B-9452-06098D4F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A31A0-A698-44D1-A4CC-0089500A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7E0A-6B61-4C1A-AA68-4285E168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00015-C296-408F-B9C6-C534388A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D6D5-9855-4AD7-8147-59B1A2FC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04C2-B433-4037-94D0-747F609F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EAD3-5A65-4DB8-8D25-DF302DE9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8D03-FE1B-4902-81AB-AB1F299A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9417-D6FA-4005-811C-1D071FAA3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DBF-3390-4FE7-9984-2CA219E4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19FA-3FB0-4817-97CD-8001F46A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EAA-8E3F-4154-A06E-A26815C2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25FF-DF5B-4717-A565-F398F307CE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C6BB-AF56-4CA2-BF10-CAA932ECAA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9720" y="2071440"/>
            <a:ext cx="745812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643120" y="4071600"/>
            <a:ext cx="5129280" cy="22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81200" y="-6480"/>
            <a:ext cx="824040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42680" y="1357200"/>
            <a:ext cx="7358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caringbahlearningcentre.com.au/assets/images/calc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www.mathknowledge.com/images/custom/LOGO.GI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proshkolu.ru/content/media/pic/std/1000000/248000/247659-a3befaa6af58cffa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642960" y="135720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3"/>
          <a:stretch/>
        </p:blipFill>
        <p:spPr>
          <a:xfrm>
            <a:off x="500040" y="2571840"/>
            <a:ext cx="1143000" cy="785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d:\Мои документы\Мои рисунки\девочка.jpeg"/>
          <p:cNvPicPr/>
          <p:nvPr/>
        </p:nvPicPr>
        <p:blipFill>
          <a:blip r:embed="rId4"/>
          <a:stretch/>
        </p:blipFill>
        <p:spPr>
          <a:xfrm>
            <a:off x="500040" y="3786120"/>
            <a:ext cx="106524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6:21:29Z</dcterms:created>
  <dc:creator>Comp</dc:creator>
  <dc:description/>
  <dc:language>en-US</dc:language>
  <cp:lastModifiedBy>Comp</cp:lastModifiedBy>
  <dcterms:modified xsi:type="dcterms:W3CDTF">2011-07-28T11:14:53Z</dcterms:modified>
  <cp:revision>4</cp:revision>
  <dc:subject/>
  <dc:title>Слайд 1</dc:title>
</cp:coreProperties>
</file>