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5A40-04D6-43B0-A48F-12D68CB0A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56880" y="408744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4667-E314-46E1-8E1D-E6656E68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820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5565-EC1A-436C-86DE-CA9920C64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5304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4920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5688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5304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4920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739A-C79F-41AB-BFFF-ABCDE13A9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1CBEC-F030-4A6E-80B8-2DF3BEFE0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50CB6-FE39-4604-931C-5784659F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2A0A-B3DE-4046-ACA4-E9CE8264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4EA2-8AC5-4520-A619-2F0C0AE6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2AAF0-7B99-41F4-9944-20FC6150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56760" y="0"/>
            <a:ext cx="76438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3B70-33FE-4BDF-A471-C651143F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AF430-82FB-4EAA-9D87-A6C2C7654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AC74-C9CA-436C-A25A-23E0D8AF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8820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1CEC-438F-438F-B298-6CF16D4A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36B1-E76F-42C9-99F9-7D4E2E0FB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856880" y="408744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263B-B9FE-4406-97A1-4F913620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8820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F354D-AAF4-4A54-BB18-5B9C6749F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25304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49200" y="121428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85688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25304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49200" y="4087440"/>
            <a:ext cx="228168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6C70-A05F-4403-8608-4374DF145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C2E5-FAB0-41C4-9C5C-82B3F7D6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E8FF-1414-42A7-805E-C0B6A6F0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CA47-E9AC-4BFA-9B47-D12CFB35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56760" y="0"/>
            <a:ext cx="7643880" cy="463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E102-1421-4C32-B498-C255FF12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4FBA-7C9C-44D0-90D5-13637AD9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8200" y="408744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6586-A08D-4DE5-917F-4FD8E6FF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5688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8200" y="1214280"/>
            <a:ext cx="345816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56880" y="4087440"/>
            <a:ext cx="7086600" cy="26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34AB-2F66-42E3-BBD9-CB1FCC40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C7D5-6AD7-4FF9-A00D-81AA04D093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CB20-77BC-42AB-A9D5-9723363CA5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5640" y="1571400"/>
            <a:ext cx="628668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00280" y="4857840"/>
            <a:ext cx="38577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с.Павловс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3152"/>
                </a:solidFill>
                <a:latin typeface="Arial"/>
                <a:ea typeface="Times New Roman"/>
              </a:rPr>
              <a:t>Алтайский кра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6760" y="0"/>
            <a:ext cx="76438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856880" y="1214280"/>
            <a:ext cx="7086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353880" y="-55440"/>
            <a:ext cx="7656480" cy="1062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000160" y="1356840"/>
            <a:ext cx="69436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quia.com/files/quia/users/matmet/Graphics/Fancy-geometry-learn.g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grafamania.net/uploads/posts/2008-08/1219611582_7.jp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4:39:28Z</dcterms:created>
  <dc:creator>Comp</dc:creator>
  <dc:description/>
  <dc:language>en-US</dc:language>
  <cp:lastModifiedBy>Comp</cp:lastModifiedBy>
  <dcterms:modified xsi:type="dcterms:W3CDTF">2011-07-28T11:15:35Z</dcterms:modified>
  <cp:revision>5</cp:revision>
  <dc:subject/>
  <dc:title>Слайд 1</dc:title>
</cp:coreProperties>
</file>